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D81-D502-4E64-B18E-019320B2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AAD-5EFA-4AA0-B569-0F86DA6F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FB7-6875-44C7-B387-5CCF0FDE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E09-077E-443E-9199-D78D4BF8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FFB4-F555-4E27-A4CD-58A9E435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814-FB56-476D-B6D2-6273000D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65C-B67E-485E-82CF-C962F330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01A9-649E-4D75-BFEF-9C2E6921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0B26-9C51-4199-8234-C66C7A9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011-21D3-4DBF-A923-C6C401DB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7896-740A-4895-8EE3-6B5527C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94B-6EED-47B0-A98A-6F3A2A4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623-75EF-42EF-A579-AC1A75A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4DE7-06C0-4E56-9F66-98C27198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D4EF-B16A-4EF8-BE8D-4DD8BAF5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73E6-E622-4AF9-99F3-689AFAE8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2C62-3EE1-4077-BA4B-2A8D002B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D08-25BF-47DE-96E1-EB44992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4AD-FD3D-4BA1-97AC-386B0D78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CFD-544D-4D3F-AFDA-4909B10E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5C4-B161-4962-A18E-3F8C4D1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4FF-B51B-4394-BDC0-0C5E930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2E2-C387-4DD7-A6BE-50E88F61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223-F56B-40F4-81DF-31BB29CC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828-3B6F-4813-A95B-B3E596E39193}" type="slidenum"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AB31-45F6-4F16-BBAE-45D3C3DE4F1E}" type="slidenum">
              <a:rPr b="0" lang="zh-CN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04Z</dcterms:modified>
  <cp:revision>9</cp:revision>
  <dc:subject/>
  <dc:title>幻灯片 1</dc:title>
</cp:coreProperties>
</file>